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5D3-7E35-410B-9AC0-C6A658C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863-D06C-48EE-849C-9F79728B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1E4-2C61-49E6-A48D-C5A5282E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712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700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88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712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700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592-7D2B-42E3-B391-2A8449D5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3C74-DEE2-4BE0-96FB-72691DEB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4593-E46A-46F9-A9C6-1DF917A5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1B1-ADD2-41E0-A2A9-3AB7E27B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40DE-6124-4545-AE11-8E8F8D0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E998-852B-4851-8065-A26A0D0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880" y="35053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DE1-BC39-47C8-A298-0EBBD15B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A768-2DEF-4AFF-AA1D-A46DE825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AC4-5DC7-4AF1-A205-47EFC5C6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4114-B31F-4763-9B70-5B429D0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710-FEE2-47F7-AD41-E0010B42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700-414E-42B7-B427-D4DB831B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7C4A-8388-4748-B763-120F2002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712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7000" y="45334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88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712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7000" y="4891680"/>
            <a:ext cx="208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F139-A316-440B-9A4F-A7171C46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89D-1449-4437-86CF-211DA83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672-8228-4A28-830B-D9F4F522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C3D-172B-4271-8820-024E5FDB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880" y="35053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20F-572E-4947-AD8D-63CB375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30F-A082-4914-A5FA-C5399F6D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86080" y="48916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211-A6FF-41AB-9195-FCD0572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8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86080" y="4533480"/>
            <a:ext cx="316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880" y="4891680"/>
            <a:ext cx="647712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6F1-AD73-4894-88FA-698ACEA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817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817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12F6-2AAE-4DC3-86F9-C00A27169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817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817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DB20-3E9C-4740-871B-33AC260B6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9817e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9817e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9817e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880" y="3505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453348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10:56Z</dcterms:created>
  <dc:creator>Bonnie Ritchey</dc:creator>
  <dc:description/>
  <dc:language>en-US</dc:language>
  <cp:lastModifiedBy>Bonnie Ritchey</cp:lastModifiedBy>
  <dcterms:modified xsi:type="dcterms:W3CDTF">2004-05-21T03:11:4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51033</vt:lpwstr>
  </property>
</Properties>
</file>